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2FD-FB38-4AC0-82F1-34B8E5E8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AF6-AFB7-4A05-9E64-79528292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B50-CC69-422C-8493-F3D09638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DD4-C23E-4181-A309-DFA03176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DD9E-CB9A-407B-BBC8-322A5C7F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A7C9-5ED9-4629-90FA-CF096C04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28E6-0D27-4D1D-A405-4E54E299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ADBC-CC18-40B3-860A-FB04B3B4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FC29-6311-4776-8B82-A130E10B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5AA0-15D8-4C3F-8703-5AE7B0FA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36F1-1BAC-4618-A32C-86E73172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F80-A3C8-4780-BDC6-E58D738E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070E-6900-4389-AA82-EFA9880F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A4E0-CB0E-4C5F-8D96-C9898D08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9AA2-6EDF-4A46-A8C6-AE253992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9B64-DCB3-4597-BC2C-543B5749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6E46-A98A-4543-95B4-85A0CAA7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3F3-DAC7-41E3-8651-5039AE24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91E-6C04-4E0F-8057-71FB6A6E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615-A171-4E35-928E-3A9473FF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191-1FBB-4FE1-ACBB-13ACE2ED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31DF-B5C1-4BC7-8C5D-8CB2121D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1CC-45C6-4596-97C4-738759E0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699-21D6-4EE5-905D-6E6F4DAB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DA5E-6AB1-46DE-8A71-77CFB529E939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19E8-C92D-4B9B-8202-5676E952E2EE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rder of Opera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: to use the order of operations to solve expression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lgebraic Express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 algebraic expression is an expression that contains at least one variabl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ou can evaluate an algebraic  expression by replacing each variable with a value and then applying the Order of Operation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5)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Evaluate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(5a + 2b) if a = 3 and b = -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formula is a mathematical sentence that expresses the relationship between certain quantiti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you know the value for every variable in the formula except one, you can find the value of the remaining variabl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733920" y="5257800"/>
                <a:ext cx="119052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w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6)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Find the area of a rectangle if the length is 5cm and the width is 9cm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EMD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 - parentheses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- ( ), [ ], { }, and absolute valu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- simplify within the grouping symbols firs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- if there is more than one grouping, start at the innermost symbol firs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EMD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 - exponent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- evaluate all pow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EMD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 &amp; 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 - multiplicatio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 - divisio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- you must simplify whichever comes first in the expression from LEFT to RIGH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EMD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&amp; 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- additio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 - subtractio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- you must simplify whichever comes first in the expression from LEFT to RIGH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371600" y="2438280"/>
                <a:ext cx="4572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362320" y="1981080"/>
                <a:ext cx="266688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990720" y="1981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874880" y="2160720"/>
                <a:ext cx="266688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990720" y="1981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22600" y="2057400"/>
                <a:ext cx="39621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1981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19:04:18Z</dcterms:created>
  <dc:creator>PA Department of Education</dc:creator>
  <dc:description/>
  <dc:language>en-US</dc:language>
  <cp:lastModifiedBy>Parkland High School</cp:lastModifiedBy>
  <dcterms:modified xsi:type="dcterms:W3CDTF">2010-09-16T11:54:01Z</dcterms:modified>
  <cp:revision>5</cp:revision>
  <dc:subject/>
  <dc:title>Unit 1 Section 1.3 Order of Operations</dc:title>
</cp:coreProperties>
</file>